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AFDC-A621-44A8-B13E-8F2F26B83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662C-4A46-4B4A-9663-F836850E9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A80-5313-4EBF-A3BA-38B8EE93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273-E119-41C5-AA38-1D9CDE41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A0E-7C75-4296-89A4-CAC3D930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EAF-816E-4393-A540-3BF49B6A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E0A-35F2-484B-B2D1-451E3333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439-9E28-4A04-AE1E-FF4430F5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D6B-9F2D-4D32-9286-415E84CB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C83-8D84-4718-9576-340BFFA3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D36-4836-4C9D-895C-0ED477BB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1CE-DBC2-4766-BA83-4103B0A3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8F9-CBE3-4770-8E0D-4BBAE2AE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5C4-FFF4-4842-9A7A-C000DEE1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E9F8-24AA-47C6-9DC8-6DC492236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CHELLE CORREA </a:t>
            </a: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mi nombre es Michelle. Yo tengo catorce Años. Yo vivo e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eva York. Yo tengo dos hermanas. Yo soy Simpatica y divertida. Yo estoy feliz. Yo amo la musi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60480" y="5486400"/>
            <a:ext cx="671400" cy="1011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334120"/>
            <a:ext cx="53676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49528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61689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22860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4864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 y quieres er al parke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Hola Cómo están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, bien y si pero a que hora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 las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 bien.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90720" y="6095880"/>
            <a:ext cx="480960" cy="381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866520" y="6591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8:27:39Z</dcterms:modified>
  <cp:revision>105</cp:revision>
  <dc:subject/>
  <dc:title>Profile</dc:title>
</cp:coreProperties>
</file>